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Di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of A Diluted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5 mL sample of a 6.0 M KOH is diluted by adding  75 mL of water.  Calculate the new concentration of the KOH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s KOH  = 0.025 L x  6.0 moles = 0.15 m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olume = 25 mL + 75 mL = 100. mL = 0.10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olarity =   0.15 moles   =     1.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0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25 mL sample of a 3.0 M HCl is diluted by adding  250 mL of water.  The new concentration of the HCl 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8.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.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.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SW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 1.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s HCl  =  0.250 L x 3.0 moles  =  0.75 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 M  =  0.75 mol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M 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75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new volu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.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7.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0.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.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sucrose = 50.0 mL x 15 g sucrose =  7.5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%   =   7.5 g sucrose       =  3.0 %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ew volume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ength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acids completely ionize (100%)  in aqueous solution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  +  H2O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+ Cl-  (100 %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bases completely (100%) dissociate into ions in aqueous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+ (aq)  +  OH-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100 %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, A Bronsted-Lowry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NH3 reacts with water, most of the reactants remain dissolved as molecules, but a few NH3 reacts with water to form NH4+ and hydroxide 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      +    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NH4+(aq)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don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l, HNO3 , 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ther acids are w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OH, KOH,  and 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ther bases are w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of the following a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strong acid or base   2) weak acid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eak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___  HCl (aq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___  NH3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___  NaOH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___  H2CO3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S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of the following a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strong acid or base   2) weak acid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eak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_1__  HCl (aq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_3__  NH3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_1__  NaOH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_2__  H2CO3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t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ed to neutralize stomach acid (HC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y contain one or more 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ka-Seltzer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HCO3, citric acid, and aspir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-gel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O3  and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lusil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 and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alox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 and Mg(OH)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ylanta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 and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re Ant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k of Magnesia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laids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AlNa(OH)2CO3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sodium dihydroxy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ums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mpo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O3, Al(OH)3,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concentration is less than ini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AA81-F89C-4826-895E-A9EEED41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3FCD-80B2-41A8-B9D1-43F06C53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017-8365-47F3-9CC3-723E4D98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C8D1-07AE-442B-BA39-1E89C0D0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E125-FA08-4759-B4D6-AB262A68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7861-CE9E-4E5E-A8D7-6CE0910C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0391-BAC1-42F7-BD88-48DF69CE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87BE-168E-4EF0-9ED5-886AC96F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C2A9-E24B-4D90-87C5-CB9D3FDB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F461-20D9-43AD-96FA-9D6A6DC9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B960-9D92-49DD-9934-C55A9D51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4B6-045E-4B22-A04C-A0BD632C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79C0-B24B-44DB-8C61-68587CC6309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Strengths of 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Making Dilu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entration of A Diluted 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25 mL sample of a 6.0 M KOH is diluted by adding  75 mL of water.  Calculate the new concentration of the KOH solut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Moles KO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= 0.025 L x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 6.0 mol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0.15 mo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New volum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25 mL + 75 mL = 100. mL =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0.100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New molarit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ff33"/>
                </a:solidFill>
                <a:uFillTx/>
                <a:latin typeface="Arial"/>
              </a:rPr>
              <a:t>0.15 mol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=     1.5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0.100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 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125 mL sample of a 3.0 M HCl is diluted by adding  250 mL of water.  The new concentration of the HCl solution 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8.0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1.5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1.0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W 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1.0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moles HCl  =  0.250 L x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 3.0 moles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=  0.75 mo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w M  = 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0.75 mol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0 M HC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0.750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new volume)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 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.0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7.5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10.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 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.0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g sucrose = 50.0 mL x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15 g sucros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=  7.5 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00 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w %   =  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7.5 g sucros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=  3.0 % sucro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50 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new volume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rengths of 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rong acids completely ionize (100%)  in aqueous solutions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Comic Sans MS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Cl   +  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    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+ Cl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(100 % ions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rong bases completely (100%) dissociate into ions in aqueous solutions.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OH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(aq)  +  O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100 % ions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Line 4"/>
          <p:cNvSpPr/>
          <p:nvPr/>
        </p:nvSpPr>
        <p:spPr>
          <a:xfrm>
            <a:off x="2819520" y="3429000"/>
            <a:ext cx="6858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2743200" y="5257800"/>
            <a:ext cx="6858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 2"/>
          <p:cNvSpPr/>
          <p:nvPr/>
        </p:nvSpPr>
        <p:spPr>
          <a:xfrm>
            <a:off x="3352680" y="594360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Oval 3"/>
          <p:cNvSpPr/>
          <p:nvPr/>
        </p:nvSpPr>
        <p:spPr>
          <a:xfrm>
            <a:off x="4800600" y="54100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5334120" y="60199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1143000" y="60958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 A Bronsted-Lowry Bas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n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eacts with water, most of the reactants remain dissolved as molecules, but a few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eacts with water to form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hydroxide 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aq)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aq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cceptor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donor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3886200" y="4343400"/>
            <a:ext cx="53352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>
            <a:off x="3580920" y="4572000"/>
            <a:ext cx="1143000" cy="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Oval 10"/>
          <p:cNvSpPr/>
          <p:nvPr/>
        </p:nvSpPr>
        <p:spPr>
          <a:xfrm>
            <a:off x="685800" y="5638680"/>
            <a:ext cx="68580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4876920" y="5562720"/>
            <a:ext cx="68580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Oval 12"/>
          <p:cNvSpPr/>
          <p:nvPr/>
        </p:nvSpPr>
        <p:spPr>
          <a:xfrm>
            <a:off x="533520" y="60958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838080" y="5410080"/>
            <a:ext cx="3812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Oval 14"/>
          <p:cNvSpPr/>
          <p:nvPr/>
        </p:nvSpPr>
        <p:spPr>
          <a:xfrm>
            <a:off x="4724280" y="601992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5334120" y="54864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Oval 16"/>
          <p:cNvSpPr/>
          <p:nvPr/>
        </p:nvSpPr>
        <p:spPr>
          <a:xfrm>
            <a:off x="2743200" y="5486400"/>
            <a:ext cx="838080" cy="762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Oval 17"/>
          <p:cNvSpPr/>
          <p:nvPr/>
        </p:nvSpPr>
        <p:spPr>
          <a:xfrm>
            <a:off x="2590920" y="59436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Oval 18"/>
          <p:cNvSpPr/>
          <p:nvPr/>
        </p:nvSpPr>
        <p:spPr>
          <a:xfrm>
            <a:off x="7010280" y="5410080"/>
            <a:ext cx="838440" cy="838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Oval 19"/>
          <p:cNvSpPr/>
          <p:nvPr/>
        </p:nvSpPr>
        <p:spPr>
          <a:xfrm>
            <a:off x="7772400" y="56386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>
            <a:off x="3962520" y="5638680"/>
            <a:ext cx="53316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Line 21"/>
          <p:cNvSpPr/>
          <p:nvPr/>
        </p:nvSpPr>
        <p:spPr>
          <a:xfrm flipH="1">
            <a:off x="3733560" y="5943600"/>
            <a:ext cx="990360" cy="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rong and Weak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trong aci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Cl, HNO</a:t>
            </a:r>
            <a:r>
              <a:rPr b="1" lang="en-US" sz="3200" spc="-1" strike="noStrike" baseline="-25000">
                <a:solidFill>
                  <a:srgbClr val="ff9900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st other acids are weak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Strong ba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NaOH, KOH,  and Ca(OH)</a:t>
            </a:r>
            <a:r>
              <a:rPr b="1" lang="en-US" sz="32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st other bases are weak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each of the following as a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strong acid or base   2) weak acid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weak  bas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___  HCl 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___  N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___  NaOH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___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W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each of the following as a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strong acid or base   2) weak acid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weak  bas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1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HCl 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3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N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1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NaOH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2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ntaci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ed to neutralize stomach acid (HC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y contain one or more weak bas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ka-Seltzer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H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citric acid, and aspiri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-gel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lusil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alox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ylanta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Object 4" descr=""/>
          <p:cNvPicPr/>
          <p:nvPr/>
        </p:nvPicPr>
        <p:blipFill>
          <a:blip r:embed="rId1"/>
          <a:stretch/>
        </p:blipFill>
        <p:spPr>
          <a:xfrm>
            <a:off x="7010280" y="3581280"/>
            <a:ext cx="2133720" cy="1590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ore Antaci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lk of Magnesia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laids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lNa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uminum sodium dihydroxy carbon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ums: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mpo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lu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66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dd water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66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Volume increases.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66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ew concentration is less than initia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1" name="Object 4" descr=""/>
          <p:cNvPicPr/>
          <p:nvPr/>
        </p:nvPicPr>
        <p:blipFill>
          <a:blip r:embed="rId1"/>
          <a:stretch/>
        </p:blipFill>
        <p:spPr>
          <a:xfrm>
            <a:off x="3505320" y="3962520"/>
            <a:ext cx="2286000" cy="22190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7T14:34:36Z</dcterms:created>
  <dc:creator>Karen Timberlake</dc:creator>
  <dc:description/>
  <dc:language>en-US</dc:language>
  <cp:lastModifiedBy>LEGION</cp:lastModifiedBy>
  <dcterms:modified xsi:type="dcterms:W3CDTF">2017-01-26T09:13:39Z</dcterms:modified>
  <cp:revision>5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